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A7C2-997F-47DD-87D7-292C1F93C1A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7d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B713-D256-4839-B0B2-830F340D6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D9DA-BAC4-4B7D-A426-947C5C264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011Powerpoint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2011Innerslid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7d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4572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04920" y="4648320"/>
            <a:ext cx="2666880" cy="988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ce National or Local Organization logo here</a:t>
            </a:r>
            <a:br>
              <a:rPr sz="9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loca el logotipo de tu Organización Nacional o Local aquí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érer ici le logo de l’Organisation nationale ou loca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3:15:48Z</dcterms:created>
  <dc:creator>JCI</dc:creator>
  <dc:description/>
  <dc:language>en-US</dc:language>
  <cp:lastModifiedBy>Laura Tabat</cp:lastModifiedBy>
  <dcterms:modified xsi:type="dcterms:W3CDTF">2011-04-11T18:10:52Z</dcterms:modified>
  <cp:revision>7</cp:revision>
  <dc:subject/>
  <dc:title>Slide 1</dc:title>
</cp:coreProperties>
</file>